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065-1687-4948-9BB7-F3DDAA22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5F5-461E-4909-953B-3557CDBA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918-3F8C-4F2A-96B3-72E5E2B5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470-4DF6-4C18-99EF-036678BE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21C-1BAB-4EA3-BA51-F133A44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9B1-56B3-464C-83B9-270E3033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402-92CC-4DEC-ABB1-A94AF886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84F-72A8-46A2-A0BE-CB60EF3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F00-99AB-4937-8C41-D77EE485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971-CA53-4A8D-AF75-1AE71C8C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1D2-5D82-481B-985F-74BFB827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B8E-E1B8-461A-89AF-3448ABC9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512B-BC6D-48B9-8699-F07E420D3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Ma planè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0000"/>
                </a:solidFill>
                <a:latin typeface="Lucida Calligraphy"/>
              </a:rPr>
              <a:t>Plu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Lucida Calligraphy"/>
              </a:rPr>
              <a:t>Plu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Lucida Calligraphy"/>
              </a:rPr>
              <a:t>Aujourd’hui je vais vous prés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Lucida Calligraphy"/>
              </a:rPr>
              <a:t>Une planète qui a la ré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Lucida Calligraphy"/>
              </a:rPr>
              <a:t>D’être le contraire de l’é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Lucida Calligraphy"/>
              </a:rPr>
              <a:t>Et qui aime les flo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Lucida Calligraphy"/>
              </a:rPr>
              <a:t>Ma planète s’appelle Plu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Lucida Calligraphy"/>
              </a:rPr>
              <a:t>Moi je pense que c’est une beau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Lucida Calligraphy"/>
              </a:rPr>
              <a:t>Elle donne seulement l’i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Lucida Calligraphy"/>
              </a:rPr>
              <a:t>Qu’elle ne veut pas être dérangé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1523880" cy="145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684360" cy="68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96080" y="3587760"/>
            <a:ext cx="685800" cy="598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343400" y="6099120"/>
            <a:ext cx="760320" cy="758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001000" y="5713560"/>
            <a:ext cx="684360" cy="68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914400" y="5867280"/>
            <a:ext cx="684360" cy="68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324480" y="5791320"/>
            <a:ext cx="608040" cy="60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743200" y="5867280"/>
            <a:ext cx="684360" cy="68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80880" y="5257800"/>
            <a:ext cx="379440" cy="37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381880" y="4800600"/>
            <a:ext cx="379440" cy="37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304920" y="251460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229600" y="2209680"/>
            <a:ext cx="45576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4:53:37Z</dcterms:created>
  <dc:creator>nbdoe</dc:creator>
  <dc:description/>
  <dc:language>en-US</dc:language>
  <cp:lastModifiedBy>nbdoe</cp:lastModifiedBy>
  <dcterms:modified xsi:type="dcterms:W3CDTF">2009-05-05T13:46:44Z</dcterms:modified>
  <cp:revision>3</cp:revision>
  <dc:subject/>
  <dc:title>Ma planète!</dc:title>
</cp:coreProperties>
</file>